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39F-967F-4CD2-904A-34F73971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0E0E-FCA2-41D9-922B-95ABFD63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2DD7-6969-46BC-960A-AEB5F8AE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054F-F3B0-4A21-A9D6-9A26E47B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564-5681-47DE-A70D-36F71A43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B3F-FFE5-4594-9285-8E522287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0BDE-576F-44CE-884B-5A8A3E6E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B79-73BB-4122-8B4D-DED851D9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B1AC-4214-4BFE-AEFA-6BB28212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FE80-2F0E-410E-840B-1C713EB4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50C-1C93-4688-A776-D44A7531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03AA-1DF7-47AC-B5BB-2B634222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2783-91E4-45D7-9E0A-F28AE62CF93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794320" y="3929040"/>
            <a:ext cx="36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рнет поисковик наз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05000" y="48164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92480" y="539280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ка-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420160" y="481644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г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35280" y="5445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5423040" y="481644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г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357720" y="392904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апешт - сто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214280" y="392904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называется шахматная фигура стоящая рядом с королё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16160" y="48164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ая л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420520" y="481644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р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42480" y="54450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341720" y="54450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ры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420520" y="481644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р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214280" y="392904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называется шахматная фигура стоящая рядом с королё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357720" y="39290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осит счаст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427000" y="481644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рк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438880" y="544500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к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333800" y="54450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410840" y="47973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иллиа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5438880" y="544500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к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357720" y="39290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осит счаст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286000" y="385776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умеют общее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ннис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тольный теннис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лейбол и бадминтон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419080" y="48164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438160" y="544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т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408320" y="544500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углый мя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401840" y="47973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к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416560" y="48164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438160" y="544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т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403280" y="54450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403280" y="4797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86000" y="385776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умеют общее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ннис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тольный теннис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лейбол и бадминтон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944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1928880" y="392904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пальцев у Симпсонов на одной руке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437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405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405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928880" y="392904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пальцев у Симпсонов на одной руке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286000" y="39290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страна не граничит с Швейцарией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416920" y="481644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р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5441760" y="54450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410480" y="54450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407600" y="479736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05000" y="48164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8420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794320" y="3929040"/>
            <a:ext cx="36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рнет поисковик наз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410480" y="54450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0" y="39290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страна не граничит с Швейцарией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1857240" y="392904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которой стране принадлежит остров Корс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420880" y="481644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439960" y="544500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туг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1410480" y="54450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409400" y="4797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6381360"/>
            <a:ext cx="777240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140328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1409400" y="4797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857240" y="392904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которой стране принадлежит остров Корс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2428920" y="39290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кой стране нельзя платить евр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5422680" y="481644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5438520" y="54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г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410120" y="54450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нля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403640" y="479736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р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5438520" y="54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г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428920" y="39290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кой стране нельзя платить евр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571760" y="392904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й из нижеприведённых инструментов не духов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228640" y="4797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сило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215680" y="544500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262160" y="544500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1255680" y="4797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2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"/>
          <p:cNvSpPr/>
          <p:nvPr/>
        </p:nvSpPr>
        <p:spPr>
          <a:xfrm>
            <a:off x="5228640" y="4797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сило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219640" y="54450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258920" y="54450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1258920" y="47973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571760" y="392904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й из нижеприведённых инструментов не духов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3656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314316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ребер делает куб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221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522180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14316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ребер делает куб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2571840" y="392904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ширина футбольных вор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5224680" y="479736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5225760" y="5445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,08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1263960" y="54450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,53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263960" y="479736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,5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6237000"/>
            <a:ext cx="77724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783880" y="3929040"/>
            <a:ext cx="36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называется столица Тур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09320" y="4816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мб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92840" y="53928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к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21600" y="48164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т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37440" y="54450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5224680" y="479736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2571840" y="392904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ширина футбольных вор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1392840" y="53928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к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783880" y="3929040"/>
            <a:ext cx="36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называется столица Тур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02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286000" y="392904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существует книг о Гарри Потте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14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3380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286000" y="392904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существует книг о Гарри Потте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071800" y="385776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певица поёт песню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Мое сердце бьется для тебя)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316520" y="481644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мин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20160" y="48164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лин Д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443560" y="54450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анис Мориссет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343520" y="544500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шли Симп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420160" y="48164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лин Д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071800" y="385776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певица поёт песню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Мое сердце бьется для тебя)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3357720" y="392904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апешт - сто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17960" y="48164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в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423040" y="481644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г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437080" y="54450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рва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337040" y="544500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мы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4:53Z</dcterms:created>
  <dc:creator>kahraman</dc:creator>
  <dc:description/>
  <dc:language>en-US</dc:language>
  <cp:lastModifiedBy>Grada</cp:lastModifiedBy>
  <dcterms:modified xsi:type="dcterms:W3CDTF">2016-01-25T13:12:27Z</dcterms:modified>
  <cp:revision>79</cp:revision>
  <dc:subject/>
  <dc:title>Folie 1</dc:title>
</cp:coreProperties>
</file>